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D267-0EBB-4B56-84BB-033D12C977D8}" type="slidenum"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367F-6D65-427A-8DD6-1CC42DD8F2CD}" type="slidenum"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3D9-AD7D-4266-9B2A-E4584D19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9C1-BC9F-4776-BBEF-3B1B539D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336-6139-4BD6-AB44-7C3DDB4E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E65-FDAD-43E1-BDEB-F4EB3EE8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585-0AC5-4D20-8534-9F09B255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B2F-230A-45A2-8BD3-53EAC5C2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ACC-42AB-42DD-8568-7C7C9200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369-79F8-4906-8BFD-633CE8AF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7B0-DE6E-48E8-969E-9B5215EF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7FE-24C8-45DB-9E88-0DA5D85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DE6-5496-4A13-9407-22FCA832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F48-7729-4362-9881-29F4436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FDC8-A820-4BBD-B94F-16B2133C06AA}" type="slidenum"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штита од јонизујућег зрач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560" y="1700280"/>
            <a:ext cx="801396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ректива 96/29/Еуратом од 13. маја 1996 којом се оснивају безбедносни стандарди за заштиту здравља радника и јавности против опасности које проистичу из јонизујућег зрач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ректива 97/43/Еуратом од 30. јуна 1997 заштите лица од опасности јонизујућег зрачења у односу на мед.излагањ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и донети на основу ових директива постоје унутар индивидуалних ЕУ држава које намећу специфичне захтеве применљиве 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матологе. Овај документ поставља опште смернице о доброј пракси у употреби од Х-зрака од стране стоматолог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95280" y="981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изиц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дијационо оштећење може се посматрати као укупно оштећење које поднос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зрачени појединац. Што се тиче стохастичких ефеката, то укључује ризик од фаталних тумора, не-фаталних тумора и ефекте на наследство током животног 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Вероватноћа радијационог стохастичког ефекта за целу популацију ј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7.3 x 10-2Sv-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95520" y="3141720"/>
          <a:ext cx="6095880" cy="2020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тални тум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0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ални тум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нетска оштећ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611280" y="5516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Ризик је завистан од старости и највиши је за младе а најмањи за старе. Овде је дат процењен ризик за пацијента старости 30 год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3880" y="1397160"/>
          <a:ext cx="6096240" cy="4754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ор мултипликације р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емарујући риз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2"/>
          <p:cNvSpPr/>
          <p:nvPr/>
        </p:nvSpPr>
        <p:spPr>
          <a:xfrm>
            <a:off x="2286000" y="22748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1484280"/>
          <a:ext cx="7775280" cy="4846680"/>
        </p:xfrm>
        <a:graphic>
          <a:graphicData uri="http://schemas.openxmlformats.org/drawingml/2006/table">
            <a:tbl>
              <a:tblPr/>
              <a:tblGrid>
                <a:gridCol w="2592360"/>
                <a:gridCol w="2590560"/>
                <a:gridCol w="259236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-ray tec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μ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sk of f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er mill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oral radiogra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itewing/periap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 - 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erior maxillary occl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ora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5 -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 - 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ral cephalome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gra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sectional tom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ingle sl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 scan (mandi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 -1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 - 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 scan (maxil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- 3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- 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зе за ЦТ су дате због повећања коришћења у планирању лечења  имплантатима од стране стоматол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изнетог може се видети да су конвенционалне  радиографије зуб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езане са малим дозама и ризицима за пацијен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ђутим, то је велики обим са милион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 радиографија годиш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вот је ризичан поса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ђу многобројним ризицима којима смо склони, ми смо стално изложени позадинском (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ackground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рачењу, што у просеку износи око 2400 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ваке годин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д.излагања (укључујући 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мање зуба) доприносе значајно овој цифри, са великим варијацијама од земље до земљ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ајући ово у виду, панорамски снимак може бити повезан са ефективном дозом истом као додатних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-5 дана позадинског зрачења, док су 2 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itew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радиогра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прилике једна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око један да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омпаративне сврхе, рентген плућа (20 μСв) би било једнако ок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и дана додат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позадинског зрачења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08000" y="2060640"/>
            <a:ext cx="90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ређења могу бити између дозе радијације у стоматолошкој радиографији удружене са повећаним ризиком излагања космичким зрацима (још један високи енергетски облик ЕМ зрачења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пример,  лет из Београда до Сингапура се процењује да доведе до додатне ефективне дозе од 30 μСв, док кратак лет из Брисела до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тине ствара око дозу од око 10 μС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матолошка радиографија дозе и ризици су минимални, упоредиви, у већини случајев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са изузетком ЦТ и више 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cross-section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томографија) с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ложено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шћу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неколико дана природном позадинском зрачењ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ак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зрачења подразумева ризик за пацијент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 нормалним околностим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зик од  радиографије зуба је веома низак. Ипак, неопходно је да рендгенски преглед  покаже корист за пациј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упно потенцијална дијагностичка корист мора надмашити  штету коју изложеност појединца може изазва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фикасност, користи и ризике од доступних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лтернативних техника које имају исти циљ, али које не укључују или укључују  мањ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лагање Х-зрацима би требало узети у обзи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једна радиографија не би требало да постоји без анамнезе и клиничког прегле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"Рутинска" радиографија је неприхватљива пракс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иографски  Критеријуми Упућивања су дефинисани као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Описи клиничких услова добијених на основу знакова, симптома 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мнезе који идентификују пацијената који ће вероватно имати користи од одређено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иографског прегледа 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да упућује на радиолошки преглед, стоматолог треба да обезбеди одговарајуће клиничке информаци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 пацијенту особи одговорној за излагање јонизујућем зрачењ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поручује се да деци, када су означена као високо каријес ризичн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еба на шест месеци предузети задње битевинг радиографије 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во би требало да траје док год не престану да се појављују очигледне нове или активне лезије и дете не уђе у нижу  категорију риз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ернице су систематски развијене  да помогну лекару и пацијенту у доношењу одлука   о  здравственим поступцима за одређене специфичне клиничке окол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ернице нису круте препоруке већ концепт добре клиничке пракс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иографију за дијагнозу каријеса у деце са ниским каријес ризиком  треба да предузети имајући у вид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аленцу каријеса у популациј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интервалима од 12-18 месеци (млечни) или 24 месеца (стални зуби) може да се користи, иако дужи интервали могу бити одговарајући тамо где постоји мали ризик од кариј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7640" y="1599840"/>
            <a:ext cx="87850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ји релативно мало доказа о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дности дијагностичке радиографије за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ијес код одраслих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кле, у недостатку истраживања података смернице су практично екстраполација студија у деце и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ладих осо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560" y="1773000"/>
            <a:ext cx="8651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ернице 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ортодонтск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радиографије треба консултовати ка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моћ у оправдању за преглед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прављању развојем зубала код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ц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диографија би требала да се користи 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роли 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ародонтопатиј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ак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је вероватно да ће пружити додатн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ације које би могле потенцијалн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менити ток лечења и прогноз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миџинг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је од суштинског значаја 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имплантологиј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у пре-оперативно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ланирању и контрол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диографија трудних пацијентки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о доза, а самим тим ризик за развој фетуса је толико ниска да није контраиндикација за радиографију жена које су или могу бити у другом стању под условом да је то клинички оправдано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ма потребе да користе заштитну кецељ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ступ претходним радиографијама ће избећи непотребно излагање зрачењу и помоћи у дијагностичком алгорит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ја дата пацијентима пре  радиографије зуба треба да нагласи веома низак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зик насупрот потенцијалне користи за њихово лече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ор опреме у смањењу дозе радијациј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пацијен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иловолтаж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око 60-70 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kV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 интраоралну радиографију се сматр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умним компромисом у избору у смислу ограничавања дозе и свестране дијагностичке ефикас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лтрација алуминијумом је кључни метод за смањење кожне дозе за пацијен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мањење величине снопа Х-зрака на минималну величину потребну за слику предмета интересовања (колимација)  је очигледно средство ограничавања доза за пацијенте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 опреме у смањењу дозе радијациј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ациј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авоугаона колимација је веома ефикасан начин редукције дозе</a:t>
            </a:r>
            <a:br>
              <a:rPr sz="3000"/>
            </a:b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 интраоралној радиографији зуб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о се кружни рендгенски зраци и даље користе,  пречник снопа не сме бити већи од 60 мм. Беам колиматори  треба да буду отворени и обезбеђују минимални фокус на растојању од коже  (ФСД) од 200 м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 опреме у смањењу дозе радијациј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ациј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700280"/>
            <a:ext cx="91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 је то могуће, бочни краниограм требало би да је  колимиран и да тако ограничи поље површине неопходне за дијагнозу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извођачи мора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 укључе ове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ункције у дизајн своје опрем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а 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нтраоралну радиографију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RS" sz="2600" spc="-1" strike="noStrike" u="sng">
                <a:solidFill>
                  <a:srgbClr val="000000"/>
                </a:solidFill>
                <a:uFillTx/>
                <a:latin typeface="Calibri"/>
              </a:rPr>
              <a:t>најбржи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 доступни филмови у складу са задовољавајућим  дијагностичким резултатима треба да се користе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нтраорални филмови ИСО брзина групе Е или Ф се препоручују, јер они смањују дозу зрачења више од 50% у поређењу са групом филмова брзине 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а екстраоралну радиографију најбржа доступна  комбинација Екран / филм ретко земних елемената  у складу са задовољавајућим дијагностичким резултатима треба да се кори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рзина система треба да буде најмање 4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Дигитални рецепто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е врсте интраоралних дигиталних система су тренутно доступ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ви тип подразумева оне системе који користе слике сензора на бази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geCoupledDevices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еђа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ви систем за директну дигиталну интраоралн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иографију је уведен у 1989 и био је заснован на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​​сензору осетљивом на видљив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тлост.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 системи конвертују зрачење у видљиву светлост помоћу сцинтилација на екра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-зрац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зраци су врста електромагнетног (ЕМ) зрачењ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М зрачење укључује: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дљиву светл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адио тал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кротал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смичко зрач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руге варијанте 'зрака'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Дигитални рецепто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 тип дигиталне интраоралне радиографије користи систем  за складиштење с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фсфорним плоча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да је плоча озрачена, апсорбује енергију Х-зрак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чува је као латентну слику у оквиру кристала фосфора 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 скенеру, узани ласерск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рак изазива ослобађање сачуване енергије као видљиве плаве светлости која је претвара у аналогни електронски сигнал и после то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j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дигитализуј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енирање се одвија у око 25 секунди а резултујућа слика приказана је на монитору рачунара. За разлику од 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исте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 фосфор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истеми су бежич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Дигитални рецепто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то јер је аквизиција слике брже с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системим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го са ПСП, она може бити корисна када је "Инстант" радиографија пожељна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супрот томе, ПСП-системи су бежични и користе плоче са већом сликом, отприлике величине бр.2 периапикалног филма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Једна од најважнијих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дности дигиталне радиографије је смањење дозе зрачењ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личите студије су показале да је количина радијације потребна за стварање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ике за обе врсте дигиталних интраоралних система нижа него код фил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о је вероватно 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гитал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анорамс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и цефалометријс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иографи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екстраорална) може да рутински понуди смањење дозе у поређењу са конвенционалном екран / фил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бинац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а доказа да се оправда рутинско коришћење оловне заштите за гонаде у стоматолошкој радиографиј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овна заштита штитасте жлезде треба да се користи у оним случајевима гд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је штитна жлезда у линији, или врло близу, примарног сно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: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Докази оптималне геометрије слик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би требало да има доказа о савијању филма. 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сме бити скраћења или истезања зуб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 идеалном случају, не треба да буде хоризонталних преклапања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о је преклапање присутно, оно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би требало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окриј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више од половине дебљине глеђи.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избежно због анатомских фактора (нпр. тескоба, облик зубних лукова) онда захтева додатну интраоралну или периапикалну ра-диографиј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628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: Тачна анатомска покривенос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м би требало 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рије дистал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површине очњака 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ијалне површине најудаљениј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ериорно изниклих зуб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одонтални ниво кости треба да буде видљив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 једнако приказан умаксили  и мандибули, пот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ђујући идеално центрира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Ц: Добар контраст и осветљенос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филм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обар контраст треба да постоји између     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леђи и дент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Адекватан број филм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а избију или делимично никну доњи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рећи молари а и сви остали зуби су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исутни два филма су неопходна са обе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тране ради приказа денти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кстремна закривљеност зубних лукова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оже да утиче на број потребних филм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Адекватно развијање и услови у мрачној комор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отисака ни трагова притиска на филму, нема огреботина емулзиј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котурова код аутоматских процесор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замагљења фил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хемијских трагова, трака, мрља, контамина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неадекватне фиксације или испира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кази оптималне геометрије сл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 сме бити знакова кривљења зуба у периапикалној регији од интереса на фил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 сме бити скраћења нити елонгације зу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идеалном случају, не треба да буде хоризонталних преклап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о постоји преклапање оно не сме да сакрива канале пулп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ре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чна анатомска покрив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илм мора да прикаже зубе од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еса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унице и корено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м перикапикалне кости се морају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дети да би се омогућила анализа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пикалне аматом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обар контраст и дензитет фил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ра да постоји добра осветљеност и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траст између глеђи и ден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ве се може сматрати "пакетима" енергије, који се зову фотони,  имају таласне особине, најважније таласну дужину и фреквенцију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-зраци су зраци кратке таласне дужине и високе фреквенције ЕМ зрачења.</a:t>
            </a:r>
            <a:br>
              <a:rPr sz="3000"/>
            </a:b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Значај овога је да високе фреквенције значе високе енергије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а Х-зраци погоде атом ова енергија може да се пренесе, производећи јонизацију ато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Адекватан број филм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 третману ендодонције може бити неопходно одвојити преклопљене коренове помоћу 2 филма под различитим хоризонталним угл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Један нормалан и један под 20⁰ косог угла за све моларе и прве максиларне премола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нализа хоризонтално импактираних трећих мандибуларних молара може да захтева 2 снимка за приказ апекса: један нормалан и један више постериорни са 20⁰ косог хоризонталног уг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Адекватно развијање и услови у мрачној комор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отисака ни трагова притиска на филму, нема огреботина емулзиј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котурова код аутоматских процесор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замагљења фил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хемијских трагова, трака, мрља, контамина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неадекватне фиксације или испира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Апарати за снимање зу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ви новоинсталирани апарати морају проћи критичке прегледе и детаљни тзв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eptance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ест пре употребе да би се осигурала оптимална радијациона заштита за персонал, пацијенте и окруже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ви зубни рендген апарати морају се редовно прегледати ради провере да евентуално радијациона заштита за персонал, пацијенте и окружење није наруш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стем провере квалитета мрачних комора и развијања филм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стем провере квалитета мрачних комора и развијања филмова мора се спроводити у свакој устано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о миниму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мпература развијача се проверава пре развијања филма и време развијања према њој прилагођ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утоматски процесори (коморе) се редовно чисте и одражавају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чности у развијачу се редовно мења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Низак ниво осветљености и конт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038840" cy="2808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108000" y="4724280"/>
            <a:ext cx="89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недовољно развијен фил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а развијача ниска, кратко време развијања, разблажене или старе теч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 недовољна експонираност  филма Х-зрацим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Тешка визуелизација детаља; тешка детекција кариј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више осветљен фил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121360" cy="3328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224640" y="5405400"/>
            <a:ext cx="750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више развијен фил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висока температура развијач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дуго развијање, течности преконцентроване 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терана експозиција Х-зра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Тешка визуелизација детаљ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тешка детекција кариј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маг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742000" cy="38113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324000" y="5300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ри фил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лоши услови магационирања филмо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лазак светла у мрачну комору, висока температура развијача, недовољна фиксација (млечно-бледа површина)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Ефеак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Тешка визуелизација детаљ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тешка детекција карије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27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Интраорални снимци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озиција фил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390760" y="1773360"/>
            <a:ext cx="4362480" cy="2857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468360" y="508464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Некоректна почетна позиција или померање филма пре експози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Губитак зоне од интереса  у овом случају апекса и периапикалног регио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клап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2131920" y="1413000"/>
            <a:ext cx="4808520" cy="31255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250920" y="48927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Некоректна ангулација снопа упадних Х-зрако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перпонирање круница и коренова суседних зу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сто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857320" cy="427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3851280" y="2165400"/>
            <a:ext cx="3811680" cy="2082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61128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3995640" y="3692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3419640" y="4305240"/>
            <a:ext cx="53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авијање филма или некоректна вертикална ангула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падног сноп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зра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ко је филм пресавијен (ако није сасвим раван) слика ће на периферији бити уврнута, растегну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(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ко је некоректна вертикална ангула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падног сноп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зрака долази или до скраћења или до елонга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B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-792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ијационо оштећ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да пацијенти пролазе рендген прегледе, милиони фотона пролазе кроз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њихова тел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ви могу да оштете било који молекул  јонизацијом, али оштећења на ДНК  хромозома су од посебног значај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јвише оштећења ДНК је одмах поправљено, али ретко део хромозома може бити подложан сталном мењању (мутацијама)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во на крају може довести до формирања тумо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5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анорамска радиографиј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решке позиционир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-1440" y="1197000"/>
            <a:ext cx="4316400" cy="2154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512960" cy="2154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-33480" y="3500280"/>
            <a:ext cx="4348440" cy="27147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4606920" y="3351240"/>
            <a:ext cx="453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Лоша позиција пацијен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Зависи од позиције Ако је пацијент сувише позади у апарату предњи зуби су увелич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A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Ако је пацијент сувише напред у апарату предњи зуби су преус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врнута позиција резултира асиметријом леве и десне 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15408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076720" y="1333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11160" y="378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мер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43080" y="2000160"/>
            <a:ext cx="4857840" cy="28576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250920" y="537372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Померање пацијента током експозициј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Ефеакат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Ирегуларне контуре мандибул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Локализовано сужење или увећање зуб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Вертикалне траке ирегуларне осветље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екундарне сл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19160" y="1528920"/>
            <a:ext cx="8905680" cy="38001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611280" y="5661000"/>
            <a:ext cx="7705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Метални објекти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минђуше, пирсинг..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Радиоопакне слике прекривају задње зуб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Нивои доза за 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The National Commission for Radiation Protection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CRP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САД пријављују средњу дозу примљену код зубарских радника о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v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диш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лично том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Radiological Protection Board (NRPB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Великој Британији предвиђа средњи ниво од испо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1 mSv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диш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ALAR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НЦИ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 Low As Reasonably Achiev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вај принцип представља камен темељац радијационе зашт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осн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ARA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виђа све мере које могу бити разумно имплементиране а осигуравају оптималну радијациону зашти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процени шта је разумно морају се узети у обзир и економски и социјални мом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нципи заштите</a:t>
            </a: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марни и расути зр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 интраоралну радиографију доза у примарном снопу ј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Gy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На 1м од извора на аноди због расутог з рачења доза је око 1000 х мања од ов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На дистанци 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од главе пацијента доза је око 4х мања од оне на дистанци од 1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 расуте зраке дистанца је генерално довољна протекција у стоматолошкој пракси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 интраоралне и панорамск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раниограмске снимке дистанца од прек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5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м треба да обезбеди годишњу дозу исп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 mSv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од условом да оптерећење послом није прек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интраоралних ил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анорамских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раниограмских снимака недељ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државање пациј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ремено је потребно помоћи детету или хендикепираним особа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расла особа која носи оловну заштиту се постави тако да су сви делови њеног тела ван зрачног сноп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цијент придржава зубни филм само ако је неопходно, никада нико од персонала то не сме да р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26828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тентни период између изложености Х-зрацима и клиничке дијагнозе тумора може да износи много год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зик од тумора кој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и одређена рендгенска доза може се проценити, стога, знање о примљеној дози  је веома важно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ако су дозе и ризици за стоматолошку радиологију мали, одређени број епидемиолошких студија пружа доказе о повећаном ризиком од тумора мозга, пљувачних жлезда и штитасте жлезде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 описане ефекте се верује да нема  прага дозе зрачења испод којих се неће десити 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и се могу сматрати ка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тохастичк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ефекти, где је величина ризика пропорционална дози зрачења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тоје и други познати штетни ефекти зрачења, као што су катаракта ,  еритем и ефекти на плодност, који дефинитивно имају праг дозе испод којих се неће догодити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ви прагови дозе варирају у величини, али све величине су далеко веће од оних у стоматолошкој радиографији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зе зрач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рмини  доза и експозиција су у широкој употреби, али се често погрешно схватају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за се може измерити за поједина ткива или органе (на пример кожу,очи, костну срж) или за цело тело, док се експозиција обично односи на подешавање апарата (време,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,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kV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есто коришћена мера доза у истраживањима је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лазна кожна доз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ен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 милигрејима (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mGy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дност је што се веома лако може измерити постављањем дозиметра на кожу пацијент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зе зра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за зрачења се јасније изражава као ефективна доза, мерена у јединицама апсорпције по јединици масе (џула / кг) и зове се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Sivert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(више обично 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micro Sy) koj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представља један милионити део сиверта). У пракси, ефективна доза се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рачунава  мерењем апсорпције енергије у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ређеним "кључним" органима у телу, тако да коначна цифра репрезентује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штету учињену "целом телу"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к је ефективну дозу немогуће мерити ин виво, могуће је да се утврди из лабораторијских студија или компјутерским моделирањем. Ово се затим може користити за процену ризика зрачењ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4:45:28Z</dcterms:created>
  <dc:creator>nikola</dc:creator>
  <dc:description/>
  <dc:language>en-US</dc:language>
  <cp:lastModifiedBy>Milan Mijailovic</cp:lastModifiedBy>
  <dcterms:modified xsi:type="dcterms:W3CDTF">2024-08-29T09:27:41Z</dcterms:modified>
  <cp:revision>58</cp:revision>
  <dc:subject/>
  <dc:title>PowerPoint Presentation</dc:title>
</cp:coreProperties>
</file>